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67A7-4E1E-414E-8AF1-1A7E40815C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se tennis courts were surrounded by apartment buildings. Hitting a ball made quite a loud noise. In Japan in many schools pupils learn to play “soft tennis” , using a soft tennis ball, which makes the game slower, less loud and easier to 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E146-5D97-4F10-B873-549E8A9EC5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431-271B-49D3-AC21-CAC2058041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1A37-A7BC-4E16-AB7D-4B6FC1CE59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232B-402F-4FE6-93CC-D73732AE6C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E526-1186-4C00-B7AB-6C972ED6D6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4F4-F90A-40CB-933D-F3598FE626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0955-C2CF-4F5A-A26E-4FD0E91363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8C9D-C3C7-4F9E-A236-68367CB959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C86E-0C53-4F94-9BE3-1983DFF52C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B123-3C0D-4832-84D9-BBC551884E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8372-2865-4804-95E9-25D3CCA16E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0F54-CC4F-4F09-B80E-0E2657F5A3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0762-E3DF-46F3-B62B-388A52313F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0DEF-BB3B-4D0E-9906-BF0DC39E9D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4662-E953-49B3-8315-EE69D43B5E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430C-BBFC-4359-AEA7-5C8BDF9AA4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2EDB-520B-453E-BC46-7291E54270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9FA3-1004-4804-8394-B420666D30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2292-8A2F-49A7-9F09-45946D9096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A5B-893D-4DDE-9611-9782313FA9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397-095C-4C19-878A-1F5AC9A4C9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DE95-2A32-4C43-B817-E0D30638A7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2320-4E4C-4B68-A1A5-8CA2BA53B4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5C0-D425-4C5B-BB59-6A501DAA74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CABA-B0BE-4C30-8A11-45D81AAAB0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76EA-D245-46AF-8EC0-519E732C86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EC8-39EC-44B0-99C5-9D5FD7B03D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E96C-8B98-4762-8883-96824AA86A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7378-0D04-42A2-9C27-A68F26180D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6814-113B-49FC-AAF3-117DC06E81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70CA-EA46-4552-B33C-DE26B05AEF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C569-52ED-4EC9-9513-24C39628AB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02C6-B74A-42D4-A761-6A1228546D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C30A-EF2A-4092-B65F-AD319300DC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B123-2563-4AB3-8432-C3A52CD02B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B046-E512-4C5A-920B-478632D807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6A45-372B-4D53-8F98-904EAAF977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0CAA-F808-4F15-8720-F4AC2E0103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1B42-7839-483C-8E39-754716740C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49B4-DABD-4089-8464-87216889F6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2CC-9482-4AFD-AD50-135DBBF793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5D9-E4EE-4822-BC09-74BE57D201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4CB-2161-4623-B404-2D9B14FB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072-8FB0-460A-9307-CD621543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864-C7B5-46DC-A630-BDF6D8E5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CD4-CE3E-4FA6-97B1-64C92C43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103-73A2-4E4B-9F3C-437057B4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5FE-1344-421D-A58D-CD13BE48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8E1-9EDC-409C-BB16-2F64D3CC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3FC-52EA-4CBE-914A-263DDB33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CCE-7420-4D79-81E2-D9A127AB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B7D-0018-463C-9B4C-E74C19CA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814-62C9-4F84-8BB1-26AFB65B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E1D-D0AD-4AF6-A9A3-BEBA6AD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847-2604-418F-A362-F799007298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00160" y="206064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NtMotoyaKyotai"/>
              </a:rPr>
              <a:t>カタカナ</a:t>
            </a:r>
            <a:r>
              <a:rPr b="1" lang="en-GB" sz="9600" spc="-1" strike="noStrike">
                <a:solidFill>
                  <a:srgbClr val="ffff66"/>
                </a:solidFill>
                <a:latin typeface="Arial"/>
                <a:ea typeface="MS Gothic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5240" y="4005360"/>
            <a:ext cx="46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99"/>
                </a:solidFill>
                <a:latin typeface="Arial"/>
                <a:ea typeface="NtMotoyaKyotai"/>
              </a:rPr>
              <a:t>く　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6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1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60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1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600"/>
                            </p:stCondLst>
                            <p:childTnLst>
                              <p:par>
                                <p:cTn id="2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3400" y="5229360"/>
            <a:ext cx="851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にゅ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ーじーらん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97240" y="4869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New Zea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20880" y="5300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ニュ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ージーラン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0926800">
            <a:off x="2936520" y="475920"/>
            <a:ext cx="4751280" cy="4236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フリーフォーム 4"/>
          <p:cNvSpPr/>
          <p:nvPr/>
        </p:nvSpPr>
        <p:spPr>
          <a:xfrm>
            <a:off x="3657600" y="2532240"/>
            <a:ext cx="2360520" cy="5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フリーフォーム 5"/>
          <p:cNvSpPr/>
          <p:nvPr/>
        </p:nvSpPr>
        <p:spPr>
          <a:xfrm>
            <a:off x="2887560" y="4410000"/>
            <a:ext cx="4046760" cy="717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24160" y="1700280"/>
            <a:ext cx="38894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に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64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853200">
            <a:off x="-735120" y="981000"/>
            <a:ext cx="8377200" cy="10588680"/>
          </a:xfrm>
          <a:prstGeom prst="rect">
            <a:avLst/>
          </a:prstGeom>
          <a:ln w="0">
            <a:noFill/>
          </a:ln>
        </p:spPr>
      </p:pic>
      <p:sp>
        <p:nvSpPr>
          <p:cNvPr id="166" name="フリーフォーム 4"/>
          <p:cNvSpPr/>
          <p:nvPr/>
        </p:nvSpPr>
        <p:spPr>
          <a:xfrm>
            <a:off x="3657600" y="2532240"/>
            <a:ext cx="2360520" cy="542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フリーフォーム 5"/>
          <p:cNvSpPr/>
          <p:nvPr/>
        </p:nvSpPr>
        <p:spPr>
          <a:xfrm>
            <a:off x="2887560" y="4410000"/>
            <a:ext cx="4046760" cy="717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2880" y="189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二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nee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se are two n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e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800"/>
                            </p:stCondLst>
                            <p:childTnLst>
                              <p:par>
                                <p:cTn id="3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300"/>
                            </p:stCondLst>
                            <p:childTnLst>
                              <p:par>
                                <p:cTn id="3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80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フリーフォーム 4"/>
          <p:cNvSpPr/>
          <p:nvPr/>
        </p:nvSpPr>
        <p:spPr>
          <a:xfrm>
            <a:off x="3510000" y="2467080"/>
            <a:ext cx="2550960" cy="66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フリーフォーム 6"/>
          <p:cNvSpPr/>
          <p:nvPr/>
        </p:nvSpPr>
        <p:spPr>
          <a:xfrm rot="16200000">
            <a:off x="4606920" y="3228480"/>
            <a:ext cx="1787400" cy="9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フリーフォーム 9"/>
          <p:cNvSpPr/>
          <p:nvPr/>
        </p:nvSpPr>
        <p:spPr>
          <a:xfrm rot="19800000">
            <a:off x="3080880" y="3781080"/>
            <a:ext cx="3807000" cy="2050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52880" y="1052640"/>
            <a:ext cx="3889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74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500"/>
                            </p:stCondLst>
                            <p:childTnLst>
                              <p:par>
                                <p:cTn id="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224160" y="2133720"/>
            <a:ext cx="3600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1f497d"/>
                    </a:gs>
                  </a:gsLst>
                  <a:lin ang="5400000"/>
                </a:gradFill>
                <a:latin typeface="Elephan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1f497d"/>
                  </a:gs>
                </a:gsLst>
                <a:lin ang="5400000"/>
              </a:gradFill>
              <a:latin typeface="Elephant"/>
              <a:ea typeface="Elephant"/>
            </a:endParaRPr>
          </a:p>
        </p:txBody>
      </p:sp>
      <p:sp>
        <p:nvSpPr>
          <p:cNvPr id="176" name="フリーフォーム 4"/>
          <p:cNvSpPr/>
          <p:nvPr/>
        </p:nvSpPr>
        <p:spPr>
          <a:xfrm>
            <a:off x="3510000" y="2467080"/>
            <a:ext cx="2550960" cy="664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フリーフォーム 6"/>
          <p:cNvSpPr/>
          <p:nvPr/>
        </p:nvSpPr>
        <p:spPr>
          <a:xfrm rot="16200000">
            <a:off x="4606920" y="3228480"/>
            <a:ext cx="1787400" cy="94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フリーフォーム 9"/>
          <p:cNvSpPr/>
          <p:nvPr/>
        </p:nvSpPr>
        <p:spPr>
          <a:xfrm rot="19800000">
            <a:off x="3080880" y="3781080"/>
            <a:ext cx="3807000" cy="2050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08160" y="404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  <a:ea typeface="NtMotoyaKyotai"/>
              </a:rPr>
              <a:t>ユ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y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Who is number 1?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Y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1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600"/>
                            </p:stCondLst>
                            <p:childTnLst>
                              <p:par>
                                <p:cTn id="3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100"/>
                            </p:stCondLst>
                            <p:childTnLst>
                              <p:par>
                                <p:cTn id="3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フリーフォーム 3"/>
          <p:cNvSpPr/>
          <p:nvPr/>
        </p:nvSpPr>
        <p:spPr>
          <a:xfrm>
            <a:off x="5056200" y="3870360"/>
            <a:ext cx="615960" cy="1152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フリーフォーム 4"/>
          <p:cNvSpPr/>
          <p:nvPr/>
        </p:nvSpPr>
        <p:spPr>
          <a:xfrm>
            <a:off x="3949560" y="3606840"/>
            <a:ext cx="1809720" cy="469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フリーフォーム 7"/>
          <p:cNvSpPr/>
          <p:nvPr/>
        </p:nvSpPr>
        <p:spPr>
          <a:xfrm rot="19800000">
            <a:off x="3525840" y="4528800"/>
            <a:ext cx="2733840" cy="135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657600" y="2852640"/>
            <a:ext cx="237492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ゅ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フリーフォーム 10"/>
          <p:cNvSpPr/>
          <p:nvPr/>
        </p:nvSpPr>
        <p:spPr>
          <a:xfrm>
            <a:off x="3836880" y="1852560"/>
            <a:ext cx="914400" cy="61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フリーフォーム 11"/>
          <p:cNvSpPr/>
          <p:nvPr/>
        </p:nvSpPr>
        <p:spPr>
          <a:xfrm>
            <a:off x="3375000" y="3165480"/>
            <a:ext cx="882720" cy="5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フリーフォーム 14"/>
          <p:cNvSpPr/>
          <p:nvPr/>
        </p:nvSpPr>
        <p:spPr>
          <a:xfrm rot="18900000">
            <a:off x="3657600" y="5116320"/>
            <a:ext cx="324000" cy="65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フリーフォーム 15"/>
          <p:cNvSpPr/>
          <p:nvPr/>
        </p:nvSpPr>
        <p:spPr>
          <a:xfrm rot="18900000">
            <a:off x="3487680" y="3927600"/>
            <a:ext cx="3943440" cy="60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フリーフォーム 16"/>
          <p:cNvSpPr/>
          <p:nvPr/>
        </p:nvSpPr>
        <p:spPr>
          <a:xfrm>
            <a:off x="6091200" y="160164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フリーフォーム 17"/>
          <p:cNvSpPr/>
          <p:nvPr/>
        </p:nvSpPr>
        <p:spPr>
          <a:xfrm>
            <a:off x="5734080" y="1962000"/>
            <a:ext cx="619200" cy="62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89240" y="1557360"/>
            <a:ext cx="2376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じ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92" name=""/>
          <p:cNvSpPr/>
          <p:nvPr/>
        </p:nvSpPr>
        <p:spPr>
          <a:xfrm>
            <a:off x="200160" y="4653000"/>
            <a:ext cx="3313080" cy="1655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お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flipH="1">
            <a:off x="-232200" y="0"/>
            <a:ext cx="9705960" cy="6048360"/>
          </a:xfrm>
          <a:prstGeom prst="rect">
            <a:avLst/>
          </a:prstGeom>
          <a:ln w="0">
            <a:noFill/>
          </a:ln>
        </p:spPr>
      </p:pic>
      <p:sp>
        <p:nvSpPr>
          <p:cNvPr id="194" name="フリーフォーム 6"/>
          <p:cNvSpPr/>
          <p:nvPr/>
        </p:nvSpPr>
        <p:spPr>
          <a:xfrm>
            <a:off x="5630760" y="1844640"/>
            <a:ext cx="914400" cy="615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フリーフォーム 8"/>
          <p:cNvSpPr/>
          <p:nvPr/>
        </p:nvSpPr>
        <p:spPr>
          <a:xfrm>
            <a:off x="5168880" y="3157560"/>
            <a:ext cx="882720" cy="533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フリーフォーム 11"/>
          <p:cNvSpPr/>
          <p:nvPr/>
        </p:nvSpPr>
        <p:spPr>
          <a:xfrm rot="18900000">
            <a:off x="5451480" y="5108040"/>
            <a:ext cx="324000" cy="654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フリーフォーム 14"/>
          <p:cNvSpPr/>
          <p:nvPr/>
        </p:nvSpPr>
        <p:spPr>
          <a:xfrm rot="18900000">
            <a:off x="5281200" y="3919680"/>
            <a:ext cx="3943440" cy="599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24160" y="6156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shi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p with two sai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888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シ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shi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700"/>
                            </p:stCondLst>
                            <p:childTnLst>
                              <p:par>
                                <p:cTn id="4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200"/>
                            </p:stCondLst>
                            <p:childTnLst>
                              <p:par>
                                <p:cTn id="4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700"/>
                            </p:stCondLst>
                            <p:childTnLst>
                              <p:par>
                                <p:cTn id="4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200"/>
                            </p:stCondLst>
                            <p:childTnLst>
                              <p:par>
                                <p:cTn id="4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700"/>
                            </p:stCondLst>
                            <p:childTnLst>
                              <p:par>
                                <p:cTn id="4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16520" y="486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49600" y="522936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フラン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08160" y="189000"/>
            <a:ext cx="4469040" cy="4781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76280"/>
            <a:ext cx="3368520" cy="1657440"/>
          </a:xfrm>
          <a:prstGeom prst="wedgeRoundRectCallout">
            <a:avLst>
              <a:gd name="adj1" fmla="val 30018"/>
              <a:gd name="adj2" fmla="val 102203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NtMotoyaKyotai"/>
              </a:rPr>
              <a:t>何て　　よむかな</a:t>
            </a:r>
            <a:r>
              <a:rPr b="0" lang="en-NZ" sz="4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205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300"/>
                            </p:stCondLst>
                            <p:childTnLst>
                              <p:par>
                                <p:cTn id="5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800"/>
                            </p:stCondLst>
                            <p:childTnLst>
                              <p:par>
                                <p:cTn id="5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300"/>
                            </p:stCondLst>
                            <p:childTnLst>
                              <p:par>
                                <p:cTn id="5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800"/>
                            </p:stCondLst>
                            <p:childTnLst>
                              <p:par>
                                <p:cTn id="5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214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600"/>
                            </p:stCondLst>
                            <p:childTnLst>
                              <p:par>
                                <p:cTn id="5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00"/>
                            </p:stCondLst>
                            <p:childTnLst>
                              <p:par>
                                <p:cTn id="5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600"/>
                            </p:stCondLst>
                            <p:childTnLst>
                              <p:par>
                                <p:cTn id="5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フリーフォーム 6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フリーフォーム 12"/>
          <p:cNvSpPr/>
          <p:nvPr/>
        </p:nvSpPr>
        <p:spPr>
          <a:xfrm>
            <a:off x="6451560" y="182880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フリーフォーム 13"/>
          <p:cNvSpPr/>
          <p:nvPr/>
        </p:nvSpPr>
        <p:spPr>
          <a:xfrm>
            <a:off x="6000840" y="220680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フリーフォーム 11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24160" y="1557360"/>
            <a:ext cx="40338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ど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289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4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400"/>
                            </p:stCondLst>
                            <p:childTnLst>
                              <p:par>
                                <p:cTn id="6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90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400"/>
                            </p:stCondLst>
                            <p:childTnLst>
                              <p:par>
                                <p:cTn id="6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496880" y="5229360"/>
            <a:ext cx="743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お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ーすとら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り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0520" y="4797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96880" y="5229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オ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ーストラ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リ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2576520" y="549360"/>
            <a:ext cx="4857840" cy="4363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フリーフォーム 12"/>
          <p:cNvSpPr/>
          <p:nvPr/>
        </p:nvSpPr>
        <p:spPr>
          <a:xfrm>
            <a:off x="3127320" y="2448000"/>
            <a:ext cx="3746520" cy="733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フリーフォーム 17"/>
          <p:cNvSpPr/>
          <p:nvPr/>
        </p:nvSpPr>
        <p:spPr>
          <a:xfrm rot="16200000">
            <a:off x="3058920" y="3535200"/>
            <a:ext cx="4363920" cy="49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フリーフォーム 18"/>
          <p:cNvSpPr/>
          <p:nvPr/>
        </p:nvSpPr>
        <p:spPr>
          <a:xfrm rot="16200000">
            <a:off x="4583880" y="5056560"/>
            <a:ext cx="552600" cy="754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フリーフォーム 22"/>
          <p:cNvSpPr/>
          <p:nvPr/>
        </p:nvSpPr>
        <p:spPr>
          <a:xfrm rot="18900000">
            <a:off x="2682360" y="3719160"/>
            <a:ext cx="3030840" cy="40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08160" y="1341360"/>
            <a:ext cx="4176720" cy="44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303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500"/>
                            </p:stCondLst>
                            <p:childTnLst>
                              <p:par>
                                <p:cTn id="68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84520" y="189000"/>
            <a:ext cx="5759280" cy="5957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 flipH="1" rot="19556400">
            <a:off x="3223800" y="2997000"/>
            <a:ext cx="2451240" cy="2269800"/>
          </a:xfrm>
          <a:prstGeom prst="rect">
            <a:avLst/>
          </a:prstGeom>
          <a:ln w="0">
            <a:noFill/>
          </a:ln>
        </p:spPr>
      </p:pic>
      <p:sp>
        <p:nvSpPr>
          <p:cNvPr id="306" name="フリーフォーム 12"/>
          <p:cNvSpPr/>
          <p:nvPr/>
        </p:nvSpPr>
        <p:spPr>
          <a:xfrm>
            <a:off x="3127320" y="2448000"/>
            <a:ext cx="3746520" cy="733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フリーフォーム 17"/>
          <p:cNvSpPr/>
          <p:nvPr/>
        </p:nvSpPr>
        <p:spPr>
          <a:xfrm rot="16200000">
            <a:off x="3058920" y="3535200"/>
            <a:ext cx="4363920" cy="490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フリーフォーム 18"/>
          <p:cNvSpPr/>
          <p:nvPr/>
        </p:nvSpPr>
        <p:spPr>
          <a:xfrm rot="16200000">
            <a:off x="4583880" y="5056560"/>
            <a:ext cx="552600" cy="75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フリーフォーム 22"/>
          <p:cNvSpPr/>
          <p:nvPr/>
        </p:nvSpPr>
        <p:spPr>
          <a:xfrm rot="18900000">
            <a:off x="2682360" y="3719160"/>
            <a:ext cx="3030840" cy="401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0160" y="18900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オ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00160" y="5546880"/>
            <a:ext cx="632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d orange tree with a broken bran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00"/>
                            </p:stCondLst>
                            <p:childTnLst>
                              <p:par>
                                <p:cTn id="7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700"/>
                            </p:stCondLst>
                            <p:childTnLst>
                              <p:par>
                                <p:cTn id="7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7200"/>
                            </p:stCondLst>
                            <p:childTnLst>
                              <p:par>
                                <p:cTn id="7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700"/>
                            </p:stCondLst>
                            <p:childTnLst>
                              <p:par>
                                <p:cTn id="7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200"/>
                            </p:stCondLst>
                            <p:childTnLst>
                              <p:par>
                                <p:cTn id="7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7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60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100"/>
                            </p:stCondLst>
                            <p:childTnLst>
                              <p:par>
                                <p:cTn id="7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600"/>
                            </p:stCondLst>
                            <p:childTnLst>
                              <p:par>
                                <p:cTn id="7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6100"/>
                            </p:stCondLst>
                            <p:childTnLst>
                              <p:par>
                                <p:cTn id="7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660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フリーフォーム 8"/>
          <p:cNvSpPr/>
          <p:nvPr/>
        </p:nvSpPr>
        <p:spPr>
          <a:xfrm rot="19800000">
            <a:off x="3182760" y="1623600"/>
            <a:ext cx="3443400" cy="1731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12"/>
          <p:cNvSpPr/>
          <p:nvPr/>
        </p:nvSpPr>
        <p:spPr>
          <a:xfrm rot="19800000">
            <a:off x="3251160" y="3146400"/>
            <a:ext cx="4051440" cy="1687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24160" y="1700280"/>
            <a:ext cx="38894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ふ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と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327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400"/>
                            </p:stCondLst>
                            <p:childTnLst>
                              <p:par>
                                <p:cTn id="8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900"/>
                            </p:stCondLst>
                            <p:childTnLst>
                              <p:par>
                                <p:cTn id="8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400"/>
                            </p:stCondLst>
                            <p:childTnLst>
                              <p:par>
                                <p:cTn id="8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336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300"/>
                            </p:stCondLst>
                            <p:childTnLst>
                              <p:par>
                                <p:cTn id="8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800"/>
                            </p:stCondLst>
                            <p:childTnLst>
                              <p:par>
                                <p:cTn id="8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300"/>
                            </p:stCondLst>
                            <p:childTnLst>
                              <p:par>
                                <p:cTn id="8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800"/>
                            </p:stCondLst>
                            <p:childTnLst>
                              <p:par>
                                <p:cTn id="8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フリーフォーム 5"/>
          <p:cNvSpPr/>
          <p:nvPr/>
        </p:nvSpPr>
        <p:spPr>
          <a:xfrm rot="16200000">
            <a:off x="2875680" y="2734200"/>
            <a:ext cx="2247840" cy="40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フリーフォーム 9"/>
          <p:cNvSpPr/>
          <p:nvPr/>
        </p:nvSpPr>
        <p:spPr>
          <a:xfrm rot="18000000">
            <a:off x="3046320" y="2969640"/>
            <a:ext cx="4259160" cy="172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24160" y="1268280"/>
            <a:ext cx="28814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344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073240" y="1341360"/>
            <a:ext cx="5543640" cy="5068800"/>
          </a:xfrm>
          <a:prstGeom prst="rect">
            <a:avLst/>
          </a:prstGeom>
          <a:ln w="0">
            <a:noFill/>
          </a:ln>
        </p:spPr>
      </p:pic>
      <p:sp>
        <p:nvSpPr>
          <p:cNvPr id="346" name="フリーフォーム 5"/>
          <p:cNvSpPr/>
          <p:nvPr/>
        </p:nvSpPr>
        <p:spPr>
          <a:xfrm rot="16200000">
            <a:off x="2875680" y="2734200"/>
            <a:ext cx="2247840" cy="405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フリーフォーム 9"/>
          <p:cNvSpPr/>
          <p:nvPr/>
        </p:nvSpPr>
        <p:spPr>
          <a:xfrm rot="18000000">
            <a:off x="3046320" y="2969640"/>
            <a:ext cx="4259160" cy="1728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97240" y="33336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リ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ree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28880" y="5546880"/>
            <a:ext cx="61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re ar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e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 on the edge of the po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40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9500"/>
                            </p:stCondLst>
                            <p:childTnLst>
                              <p:par>
                                <p:cTn id="9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4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6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8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フリーフォーム 6"/>
          <p:cNvSpPr/>
          <p:nvPr/>
        </p:nvSpPr>
        <p:spPr>
          <a:xfrm>
            <a:off x="2952720" y="1933560"/>
            <a:ext cx="3967200" cy="87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フリーフォーム 14"/>
          <p:cNvSpPr/>
          <p:nvPr/>
        </p:nvSpPr>
        <p:spPr>
          <a:xfrm rot="16200000">
            <a:off x="3106800" y="3695760"/>
            <a:ext cx="2712960" cy="15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フリーフォーム 7"/>
          <p:cNvSpPr/>
          <p:nvPr/>
        </p:nvSpPr>
        <p:spPr>
          <a:xfrm>
            <a:off x="5270400" y="2087640"/>
            <a:ext cx="1719360" cy="139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20880" y="836640"/>
            <a:ext cx="42498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500"/>
                            </p:stCondLst>
                            <p:childTnLst>
                              <p:par>
                                <p:cTn id="9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352520" y="-1395360"/>
            <a:ext cx="7750080" cy="7250040"/>
          </a:xfrm>
          <a:prstGeom prst="rect">
            <a:avLst/>
          </a:prstGeom>
          <a:ln w="0">
            <a:noFill/>
          </a:ln>
        </p:spPr>
      </p:pic>
      <p:sp>
        <p:nvSpPr>
          <p:cNvPr id="355" name="フリーフォーム 6"/>
          <p:cNvSpPr/>
          <p:nvPr/>
        </p:nvSpPr>
        <p:spPr>
          <a:xfrm>
            <a:off x="2952720" y="1933560"/>
            <a:ext cx="3967200" cy="876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フリーフォーム 14"/>
          <p:cNvSpPr/>
          <p:nvPr/>
        </p:nvSpPr>
        <p:spPr>
          <a:xfrm rot="16200000">
            <a:off x="3106800" y="3695760"/>
            <a:ext cx="2712960" cy="1519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フリーフォーム 7"/>
          <p:cNvSpPr/>
          <p:nvPr/>
        </p:nvSpPr>
        <p:spPr>
          <a:xfrm>
            <a:off x="5270400" y="2087640"/>
            <a:ext cx="1719360" cy="1390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ア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tick your tongue out and say “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Ah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5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9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800"/>
                            </p:stCondLst>
                            <p:childTnLst>
                              <p:par>
                                <p:cTn id="9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800"/>
                            </p:stCondLst>
                            <p:childTnLst>
                              <p:par>
                                <p:cTn id="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300"/>
                            </p:stCondLst>
                            <p:childTnLst>
                              <p:par>
                                <p:cTn id="10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4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6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08160" y="5300640"/>
            <a:ext cx="46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い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ぎ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り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68520" y="479736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U.K./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36880" y="5373720"/>
            <a:ext cx="43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イ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ギ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リ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649600" y="260280"/>
            <a:ext cx="46800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フリーフォーム 4"/>
          <p:cNvSpPr/>
          <p:nvPr/>
        </p:nvSpPr>
        <p:spPr>
          <a:xfrm rot="18900000">
            <a:off x="2744640" y="2714400"/>
            <a:ext cx="3559320" cy="609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リーフォーム 7"/>
          <p:cNvSpPr/>
          <p:nvPr/>
        </p:nvSpPr>
        <p:spPr>
          <a:xfrm rot="16200000">
            <a:off x="3562560" y="4284720"/>
            <a:ext cx="2862000" cy="35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576520" y="1700280"/>
            <a:ext cx="4249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い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39800" y="198360"/>
            <a:ext cx="7129440" cy="6659640"/>
          </a:xfrm>
          <a:prstGeom prst="rect">
            <a:avLst/>
          </a:prstGeom>
          <a:ln w="0">
            <a:noFill/>
          </a:ln>
        </p:spPr>
      </p:pic>
      <p:sp>
        <p:nvSpPr>
          <p:cNvPr id="58" name="フリーフォーム 8"/>
          <p:cNvSpPr/>
          <p:nvPr/>
        </p:nvSpPr>
        <p:spPr>
          <a:xfrm rot="19800000">
            <a:off x="3584520" y="2133720"/>
            <a:ext cx="2022480" cy="1222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リーフォーム 12"/>
          <p:cNvSpPr/>
          <p:nvPr/>
        </p:nvSpPr>
        <p:spPr>
          <a:xfrm rot="19800000">
            <a:off x="3728880" y="3141360"/>
            <a:ext cx="2379960" cy="1192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13240" y="6156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Who 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s hung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8880" y="189000"/>
            <a:ext cx="31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フ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1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154240" y="0"/>
            <a:ext cx="5343480" cy="6165720"/>
          </a:xfrm>
          <a:prstGeom prst="rect">
            <a:avLst/>
          </a:prstGeom>
          <a:ln w="0">
            <a:noFill/>
          </a:ln>
        </p:spPr>
      </p:pic>
      <p:sp>
        <p:nvSpPr>
          <p:cNvPr id="368" name="フリーフォーム 4"/>
          <p:cNvSpPr/>
          <p:nvPr/>
        </p:nvSpPr>
        <p:spPr>
          <a:xfrm rot="18900000">
            <a:off x="3368520" y="2349000"/>
            <a:ext cx="2648160" cy="455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フリーフォーム 7"/>
          <p:cNvSpPr/>
          <p:nvPr/>
        </p:nvSpPr>
        <p:spPr>
          <a:xfrm rot="16200000">
            <a:off x="3972600" y="3521520"/>
            <a:ext cx="2138400" cy="266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68520" y="6156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</a:t>
            </a:r>
            <a:r>
              <a:rPr b="0" lang="en-NZ" sz="4000" spc="-1" strike="noStrike">
                <a:solidFill>
                  <a:srgbClr val="ff0066"/>
                </a:solidFill>
                <a:latin typeface="Kristen ITC"/>
              </a:rPr>
              <a:t>e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40160" y="476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66cc"/>
                </a:solidFill>
                <a:latin typeface="Kristen ITC"/>
              </a:rPr>
              <a:t>イ</a:t>
            </a:r>
            <a:r>
              <a:rPr b="0" lang="ja-JP" sz="4400" spc="-1" strike="noStrike">
                <a:solidFill>
                  <a:srgbClr val="ff66cc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66cc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ea</a:t>
            </a:r>
            <a:r>
              <a:rPr b="0" lang="en-NZ" sz="4400" spc="-1" strike="noStrike">
                <a:solidFill>
                  <a:srgbClr val="ff66cc"/>
                </a:solidFill>
                <a:latin typeface="Kristen ITC"/>
              </a:rPr>
              <a:t>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5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7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フリーフォーム 7"/>
          <p:cNvSpPr/>
          <p:nvPr/>
        </p:nvSpPr>
        <p:spPr>
          <a:xfrm>
            <a:off x="3381480" y="2293920"/>
            <a:ext cx="250344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フリーフォーム 8"/>
          <p:cNvSpPr/>
          <p:nvPr/>
        </p:nvSpPr>
        <p:spPr>
          <a:xfrm>
            <a:off x="2927520" y="3359160"/>
            <a:ext cx="3949560" cy="115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フリーフォーム 10"/>
          <p:cNvSpPr/>
          <p:nvPr/>
        </p:nvSpPr>
        <p:spPr>
          <a:xfrm rot="15600000">
            <a:off x="2646360" y="3471480"/>
            <a:ext cx="4367160" cy="59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224160" y="1557360"/>
            <a:ext cx="388944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き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376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 rot="5400000">
            <a:off x="1427400" y="-3240"/>
            <a:ext cx="6402240" cy="6408720"/>
          </a:xfrm>
          <a:prstGeom prst="rect">
            <a:avLst/>
          </a:prstGeom>
          <a:ln w="0">
            <a:noFill/>
          </a:ln>
        </p:spPr>
      </p:pic>
      <p:sp>
        <p:nvSpPr>
          <p:cNvPr id="378" name="フリーフォーム 7"/>
          <p:cNvSpPr/>
          <p:nvPr/>
        </p:nvSpPr>
        <p:spPr>
          <a:xfrm>
            <a:off x="3381480" y="2293920"/>
            <a:ext cx="250344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フリーフォーム 8"/>
          <p:cNvSpPr/>
          <p:nvPr/>
        </p:nvSpPr>
        <p:spPr>
          <a:xfrm>
            <a:off x="2927520" y="3359160"/>
            <a:ext cx="3949560" cy="115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フリーフォーム 10"/>
          <p:cNvSpPr/>
          <p:nvPr/>
        </p:nvSpPr>
        <p:spPr>
          <a:xfrm rot="15600000">
            <a:off x="2646360" y="3471480"/>
            <a:ext cx="4367160" cy="59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94480" y="260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キ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imply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key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フリーフォーム 9"/>
          <p:cNvSpPr/>
          <p:nvPr/>
        </p:nvSpPr>
        <p:spPr>
          <a:xfrm>
            <a:off x="3381480" y="2293920"/>
            <a:ext cx="250344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フリーフォーム 10"/>
          <p:cNvSpPr/>
          <p:nvPr/>
        </p:nvSpPr>
        <p:spPr>
          <a:xfrm>
            <a:off x="2927520" y="3359160"/>
            <a:ext cx="3949560" cy="115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フリーフォーム 12"/>
          <p:cNvSpPr/>
          <p:nvPr/>
        </p:nvSpPr>
        <p:spPr>
          <a:xfrm>
            <a:off x="6383160" y="13399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フリーフォーム 16"/>
          <p:cNvSpPr/>
          <p:nvPr/>
        </p:nvSpPr>
        <p:spPr>
          <a:xfrm>
            <a:off x="5997600" y="16495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フリーフォーム 11"/>
          <p:cNvSpPr/>
          <p:nvPr/>
        </p:nvSpPr>
        <p:spPr>
          <a:xfrm rot="15600000">
            <a:off x="2646360" y="3471480"/>
            <a:ext cx="4367160" cy="59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24160" y="1268280"/>
            <a:ext cx="3889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ぎ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フリーフォーム 5"/>
          <p:cNvSpPr/>
          <p:nvPr/>
        </p:nvSpPr>
        <p:spPr>
          <a:xfrm rot="16200000">
            <a:off x="2875680" y="2734200"/>
            <a:ext cx="2247840" cy="40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フリーフォーム 9"/>
          <p:cNvSpPr/>
          <p:nvPr/>
        </p:nvSpPr>
        <p:spPr>
          <a:xfrm rot="18000000">
            <a:off x="3046320" y="2969640"/>
            <a:ext cx="4259160" cy="172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24160" y="1268280"/>
            <a:ext cx="28814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073240" y="1341360"/>
            <a:ext cx="5543640" cy="5068800"/>
          </a:xfrm>
          <a:prstGeom prst="rect">
            <a:avLst/>
          </a:prstGeom>
          <a:ln w="0">
            <a:noFill/>
          </a:ln>
        </p:spPr>
      </p:pic>
      <p:sp>
        <p:nvSpPr>
          <p:cNvPr id="393" name="フリーフォーム 5"/>
          <p:cNvSpPr/>
          <p:nvPr/>
        </p:nvSpPr>
        <p:spPr>
          <a:xfrm rot="16200000">
            <a:off x="2875680" y="2734200"/>
            <a:ext cx="2247840" cy="405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フリーフォーム 9"/>
          <p:cNvSpPr/>
          <p:nvPr/>
        </p:nvSpPr>
        <p:spPr>
          <a:xfrm rot="18000000">
            <a:off x="3046320" y="2969640"/>
            <a:ext cx="4259160" cy="1728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97240" y="33336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リ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ree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28880" y="5546880"/>
            <a:ext cx="61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re ar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e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 on the edge of the po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1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3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5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1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3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5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-360" y="5300640"/>
            <a:ext cx="888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0" y="907920"/>
          <a:ext cx="9906120" cy="5334120"/>
        </p:xfrm>
        <a:graphic>
          <a:graphicData uri="http://schemas.openxmlformats.org/drawingml/2006/table">
            <a:tbl>
              <a:tblPr/>
              <a:tblGrid>
                <a:gridCol w="662040"/>
                <a:gridCol w="660240"/>
                <a:gridCol w="660600"/>
                <a:gridCol w="658800"/>
                <a:gridCol w="662040"/>
                <a:gridCol w="660240"/>
                <a:gridCol w="658800"/>
                <a:gridCol w="660600"/>
                <a:gridCol w="661680"/>
                <a:gridCol w="658800"/>
                <a:gridCol w="660600"/>
                <a:gridCol w="660240"/>
                <a:gridCol w="662040"/>
                <a:gridCol w="658800"/>
                <a:gridCol w="660600"/>
              </a:tblGrid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や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ア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イ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つ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ウ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え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ヨ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753240" y="220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960" y="220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309240" y="522936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77240" y="21337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4880" y="220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624880" y="220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624880" y="220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977240" y="220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329760" y="522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1800" y="22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65600" y="2276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52520" y="2997360"/>
            <a:ext cx="5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4160" y="306864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ユ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37240" y="22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77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4" dur="770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6" dur="77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8" dur="77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9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1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3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77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4" dur="770" fill="hold"/>
                                        <p:tgtEl>
                                          <p:spTgt spid="4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6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8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9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1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3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4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6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8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77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9" dur="770" fill="hold"/>
                                        <p:tgtEl>
                                          <p:spTgt spid="4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1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3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77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4" dur="770" fill="hold"/>
                                        <p:tgtEl>
                                          <p:spTgt spid="4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6" dur="77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8" dur="77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67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3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8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3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800"/>
                            </p:stCondLst>
                            <p:childTnLst>
                              <p:par>
                                <p:cTn id="1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76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eec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09-10-30T11:54:53Z</dcterms:modified>
  <cp:revision>65</cp:revision>
  <dc:subject/>
  <dc:title>スライド 1</dc:title>
</cp:coreProperties>
</file>